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633-9C14-4206-B371-B0C2565D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755-FDD6-46F9-AFAB-30982DC4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1AA-E92B-4A5E-9AD7-C5194418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DC3-90AA-4013-9A58-A6630178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4AD-1B19-4AF0-B40A-371068BA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5C5-A8A4-47BF-98C5-349ED234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78A-5307-48DC-9A7D-88D6C229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330-A718-4F25-9E7E-5FB5475A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C54-1644-4804-966A-39808E75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21E-65F6-4A2E-916A-0C142190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353-E04D-44F5-BD96-F9282BDD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ECB-1463-4646-9D5E-8C32840C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CD2D-25C2-4BBC-8FD3-3E23FA9B1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096 Láskavý náš Tešit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náš Teš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 zrieť nám spásy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nás stále k nemu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víťazstvu, nad ktoré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skaliami mnohých bie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vždy úspešne daj spie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K trónu slávy Božej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viesť stále,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Duch Svätý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lo svoje konaj v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u úzkostí zbav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ej strácať nedaj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ôľ keď tiesni našu hru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techou nám stálou buď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K trónu slávy Božej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viesť stále,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Dar, z neba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ážiť nás uč krátky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len žiari jasn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sť daj spásy pocho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spech práci našej pr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cieľu viery dospieť da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K trónu slávy Božej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viesť stále, v každý č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1:00:41Z</dcterms:modified>
  <cp:revision>20</cp:revision>
  <dc:subject/>
  <dc:title>Je veľký náš Pán, on slávy je Kráľ Nech do všetkých strán  spev vrúcnych znie chvál.</dc:title>
</cp:coreProperties>
</file>